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698-A2DA-4877-8015-548C2128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23B-704F-4A8F-9BB8-02C18568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A32-C569-4FD0-BEF9-8028D10F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7F5-4E23-4EC5-9224-09570A07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D4D-27AC-4A10-85AB-8F0AF098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D4D-37FB-46EB-9808-1D4A1ADC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D69-C7E7-48CB-B3AE-95571530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9DF-CCB1-4B0A-B207-E6790B01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989-685A-4AE2-95D1-E23DF195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0B8-1C4B-4FAE-824C-9442F09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41D-B959-4E2F-9E9E-18387254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E6B-D440-4F51-A53B-63108A5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BF7F-B1F6-48D1-8F6C-6E0AF1420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7 Kto v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ie, čo meno Ježi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hriešnych znamená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ám Bo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sa skláň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láska nesmier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naše hriechy, v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 na kríž pribi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vôli nám tak trp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yn Boží,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eraz mnohý poču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 spásu dať chce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ak nechce tomu ver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o tme blúdi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prijať Krista vá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to ho odmi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odchádza vždy ďal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zdroja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ty choď verne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jeho rady db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om čase k neb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viery obrac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n má poko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sa rad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 Kristu nádej sklad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oha milu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1:52:43Z</dcterms:modified>
  <cp:revision>20</cp:revision>
  <dc:subject/>
  <dc:title>Je veľký náš Pán, on slávy je Kráľ Nech do všetkých strán  spev vrúcnych znie chvál.</dc:title>
</cp:coreProperties>
</file>